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502-8168-4A6F-A452-95834F6C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F72-B904-438E-B5C3-BA3E5056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6E1-1DF6-4E26-ADDF-37E33510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EF1-1950-4E36-A4CB-7AB0760E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E47-C181-45CA-908C-7DA39709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B16-EAB0-499E-909C-16518069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F1E-4889-485B-9ACC-F93252D7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AA2-24EF-4785-972F-3ABD07A6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3EA-8860-4347-B8D7-6273E6B9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B6B-185D-4865-AB45-7154A05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29F-7BF6-4945-BC12-000D439D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48C-56B3-44D3-AEAE-C6112FA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438F-A1D4-46AA-BD27-A8574E0D73C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Zurich Ex BT"/>
              </a:rPr>
              <a:t>Pró-Reitoria ou Institutos Acadêmicos (em caixa baixa)</a:t>
            </a:r>
            <a:br>
              <a:rPr sz="900"/>
            </a:br>
            <a:r>
              <a:rPr b="0" lang="pt-BR" sz="900" spc="-1" strike="noStrike">
                <a:solidFill>
                  <a:srgbClr val="ffffff"/>
                </a:solidFill>
                <a:latin typeface="Zurich Ex BT"/>
              </a:rPr>
              <a:t>Setor subordinado (em caixa baixa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m 5" descr="LOGO-UFTM-2015-EXTERNA-APRESENTACOES-NEGATIVO.png"/>
          <p:cNvPicPr/>
          <p:nvPr/>
        </p:nvPicPr>
        <p:blipFill>
          <a:blip r:embed="rId1"/>
          <a:stretch/>
        </p:blipFill>
        <p:spPr>
          <a:xfrm>
            <a:off x="2714760" y="193680"/>
            <a:ext cx="37144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6T13:06:09Z</dcterms:created>
  <dc:creator>Arquivos</dc:creator>
  <dc:description/>
  <dc:language>en-US</dc:language>
  <cp:lastModifiedBy>Arquivos</cp:lastModifiedBy>
  <dcterms:modified xsi:type="dcterms:W3CDTF">2020-07-29T16:19:01Z</dcterms:modified>
  <cp:revision>9</cp:revision>
  <dc:subject/>
  <dc:title>Slide 1</dc:title>
</cp:coreProperties>
</file>